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9E3-A06D-4836-813A-07BA0FAD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FBC-14C3-4203-86C0-50258C7D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018-67B3-4456-84C8-C072D339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E73-110F-4F00-9A70-AC312719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084A-26E8-4244-A40F-6BFCAE8A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9E43-8DD8-4224-A882-27B4AEE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E849-BAF8-4D93-9678-63FF4A5B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B0A-8883-4C75-A31D-FDC144F0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0D0D-310C-444B-9981-57DA8C02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4AE2-E0C8-4A03-9E5E-7D39921E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68F9-06CD-47DB-B88A-A971985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729-A5B7-4EE1-8B7E-EB111E0B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27C9-5519-4E2A-9F19-FA1C1E85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63C8-D1B0-4BB9-BA44-728A78B2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1FB8-62D3-4916-8FBB-9D08AF73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BBEF-3134-40C4-9C88-D4389C2E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A3AC-6D4E-49D6-BF3B-38E57D24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3B0-AAE6-4DF5-B7A1-628A53FD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E3D-3084-44CF-97E8-69EB09E3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908-3BB8-4414-A6EB-77DDA012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DF9-B244-4E61-B4AB-E89AA46C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CFE-7BC1-421F-8029-65CD2DB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054-FC0B-4AC5-97D4-5169E34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65A-590B-4247-9A9B-29345432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AD79-27C6-4CFF-9589-44299D62DC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2179-0844-481A-85B8-21E38C4604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197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ема проекта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781000"/>
            <a:ext cx="60325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f2378"/>
                </a:solidFill>
                <a:latin typeface="Comic Sans MS"/>
              </a:rPr>
              <a:t>Площадь окружающих предме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чебные предметы: геоме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770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Comic Sans MS"/>
              </a:rPr>
              <a:t>ОСНОВОПОЛАГАЮЩИЙ ВОПРОС: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Какова площад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     </a:t>
            </a: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необъятног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         </a:t>
            </a: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пространств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Дидактические 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omic Sans MS"/>
              </a:rPr>
              <a:t>Познакомиться с понятием о площади плоских фигур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omic Sans MS"/>
              </a:rPr>
              <a:t>Узнать площадь прямоугольника, параллелограмма, треугольника и трапе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omic Sans MS"/>
              </a:rPr>
              <a:t>Узнать формулы, выражающие площадь треугольника через две стороны и угол между ни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Узнать площадь четырехугольника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Методические задач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Расширить и обобщить знания учащихся о многоугольниках; сформировать представление о «составных частях» многоугольни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Развивать умение анализировать, сравнивать, делать выводы, развивать самостоятельность в мышлении и учебной деятельности, развивать исследовательскую и познавательную деятель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Воспитывать самостоятельность, активность, ответственность за порученное дело, упорство в достижении поставленной цел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Проблемные вопросы учебной деятельност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Comic Sans MS"/>
              </a:rPr>
              <a:t>Можно ли в жизни обойтись без формул вычисления площади многоугольник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Comic Sans MS"/>
              </a:rPr>
              <a:t>Как найти площадь дачного участка?</a:t>
            </a:r>
            <a:r>
              <a:rPr b="1" lang="ru-RU" sz="32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omic Sans MS"/>
              </a:rPr>
              <a:t>Может ли человек обойтись без знания геометр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Учебные вопрос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Что такое площадь плоских фигур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Что принимают за единицу измерения площад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В каких единицах измеряется площад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измеряются площади многоугольни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квадрат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прямоугольни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параллелограмм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ить площадь треугольника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ромб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трапеции?</a:t>
            </a: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Темы самостоятельных исследовани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Comic Sans MS"/>
              </a:rPr>
              <a:t>Где в нашей жизни применяются многоугольни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Comic Sans MS"/>
              </a:rPr>
              <a:t>Виды многоугольни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Comic Sans MS"/>
              </a:rPr>
              <a:t>Основные свойства и формулы многоугольни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Этапы и сроки провед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978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этап: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8f2378"/>
                </a:solidFill>
                <a:latin typeface="Comic Sans MS"/>
              </a:rPr>
              <a:t>Формирование тем исследований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(1 уро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I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этап: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8f2378"/>
                </a:solidFill>
                <a:latin typeface="Comic Sans MS"/>
              </a:rPr>
              <a:t>Формирование групп для проведения исследований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(1 уро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II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этап: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8f2378"/>
                </a:solidFill>
                <a:latin typeface="Comic Sans MS"/>
              </a:rPr>
              <a:t>Выбор творческого названия проекта, работа в группах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(1 уро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V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этап: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8f2378"/>
                </a:solidFill>
                <a:latin typeface="Comic Sans MS"/>
              </a:rPr>
              <a:t>Самостоятельная работа групп по выполнению заданий, подготовка учащимися презентации и публикации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      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(2 уро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Результаты работы: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7640" y="2204640"/>
            <a:ext cx="64724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Comic Sans MS"/>
              </a:rPr>
              <a:t>Букл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Comic Sans MS"/>
              </a:rPr>
              <a:t>Презентац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2:34:05Z</dcterms:created>
  <dc:creator>Liza</dc:creator>
  <dc:description/>
  <dc:language>en-US</dc:language>
  <cp:lastModifiedBy>Liza</cp:lastModifiedBy>
  <dcterms:modified xsi:type="dcterms:W3CDTF">2010-05-27T14:39:33Z</dcterms:modified>
  <cp:revision>6</cp:revision>
  <dc:subject/>
  <dc:title>Тема проекта:</dc:title>
</cp:coreProperties>
</file>